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C144-5DE6-4FE5-BBED-182AD3E4F1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BDFE-41E0-4BEC-89FD-FBAE6BA674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32A9-01B6-467F-B66D-3F125C3088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BA30-F718-43A3-A581-92389C5B20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EF36-0FFF-44EB-8E77-3356ED07F1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56B-D738-4798-AC4E-DEF616E4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BF6-2B21-4B5B-9F25-A7EB6F61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5BC-DFD6-46C8-B3AA-52463638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F84-9E61-4477-B774-18806367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26C-4360-434E-A2B7-9C83DAB6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A66-86CF-4029-9668-AAF20254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044-DB32-45CA-ACA8-F4F53889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331-17BA-450B-ADB9-B492F07A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54E-F09E-4BB2-BB12-A39C5C7E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DBD-B0FF-4E8E-93BC-81FA2398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1C0-6821-4A23-9FDF-E8560050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904-EA90-44BE-B10E-DBC878FA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6A08-5895-4232-AD94-1D7C0CD2A5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478240" y="3238920"/>
            <a:ext cx="39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2.5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分式方程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二章 分式和分式方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>
            <a:hlinkClick r:id="rId4" action="ppaction://hlinksldjump"/>
          </p:cNvPr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>
            <a:hlinkClick r:id="rId5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6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8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80"/>
          <p:cNvSpPr/>
          <p:nvPr/>
        </p:nvSpPr>
        <p:spPr>
          <a:xfrm>
            <a:off x="0" y="5868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466560" y="907920"/>
            <a:ext cx="82137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和同学一起去书店买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先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买了一种科普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又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买了一种文学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科普书的价格比文学书高出一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因此他们所买的科普书比所买的文学书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种科普书和这种文学书的价格各是多少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39640" y="2917800"/>
            <a:ext cx="9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314"/>
          <p:cNvSpPr/>
          <p:nvPr/>
        </p:nvSpPr>
        <p:spPr>
          <a:xfrm>
            <a:off x="1116000" y="299736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文学书的价格是每本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，科普书每本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.5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3315"/>
          <p:cNvSpPr/>
          <p:nvPr/>
        </p:nvSpPr>
        <p:spPr>
          <a:xfrm>
            <a:off x="1260360" y="3860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对象 13316"/>
          <p:cNvGraphicFramePr/>
          <p:nvPr/>
        </p:nvGraphicFramePr>
        <p:xfrm>
          <a:off x="3348000" y="3645000"/>
          <a:ext cx="2486160" cy="115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对象 133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3645000"/>
                    <a:ext cx="24861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文本框 13317"/>
          <p:cNvSpPr/>
          <p:nvPr/>
        </p:nvSpPr>
        <p:spPr>
          <a:xfrm>
            <a:off x="1332000" y="4797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5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经检验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原方程的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3318"/>
          <p:cNvSpPr/>
          <p:nvPr/>
        </p:nvSpPr>
        <p:spPr>
          <a:xfrm>
            <a:off x="1044720" y="5445000"/>
            <a:ext cx="78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文学书的价格是每本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，科普书每本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466560" y="907920"/>
            <a:ext cx="8213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商店销售一批服装，每件售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可获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%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这种服装的成本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1280" y="2205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4338"/>
          <p:cNvSpPr/>
          <p:nvPr/>
        </p:nvSpPr>
        <p:spPr>
          <a:xfrm>
            <a:off x="1332000" y="2276640"/>
            <a:ext cx="58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这种服装的成本价为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对象 14339"/>
          <p:cNvGraphicFramePr/>
          <p:nvPr/>
        </p:nvGraphicFramePr>
        <p:xfrm>
          <a:off x="3203640" y="2997360"/>
          <a:ext cx="1958760" cy="79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对象 143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997360"/>
                    <a:ext cx="1958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文本框 14340"/>
          <p:cNvSpPr/>
          <p:nvPr/>
        </p:nvSpPr>
        <p:spPr>
          <a:xfrm>
            <a:off x="1332000" y="386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方程的：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2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4341"/>
          <p:cNvSpPr/>
          <p:nvPr/>
        </p:nvSpPr>
        <p:spPr>
          <a:xfrm>
            <a:off x="1401840" y="5302080"/>
            <a:ext cx="56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答 这种服装的成本价为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4342"/>
          <p:cNvSpPr/>
          <p:nvPr/>
        </p:nvSpPr>
        <p:spPr>
          <a:xfrm>
            <a:off x="1330200" y="458316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经检验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2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原方程的根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80"/>
          <p:cNvSpPr/>
          <p:nvPr/>
        </p:nvSpPr>
        <p:spPr>
          <a:xfrm>
            <a:off x="0" y="586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239920" y="112536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列分式方程解应用题的一般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2"/>
          <p:cNvSpPr/>
          <p:nvPr/>
        </p:nvSpPr>
        <p:spPr>
          <a:xfrm>
            <a:off x="2186640" y="2133720"/>
            <a:ext cx="44416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析题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找出研究对象，建立等量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设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选择恰当的未知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单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列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等量关系正确列出方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真仔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检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要忘记写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8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9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1"/>
          <p:cNvSpPr/>
          <p:nvPr/>
        </p:nvSpPr>
        <p:spPr>
          <a:xfrm>
            <a:off x="539640" y="2133720"/>
            <a:ext cx="857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会列分式方程解决实际问题，学会建立数学模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列分式方程解决实际问题的一般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1"/>
          <p:cNvSpPr/>
          <p:nvPr/>
        </p:nvSpPr>
        <p:spPr>
          <a:xfrm>
            <a:off x="395280" y="76500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395280" y="1413000"/>
            <a:ext cx="7923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单位将沿街的一部分房屋出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间房屋的租金第二年比第一年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有房屋的租金第一年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年为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.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22200" y="2989440"/>
            <a:ext cx="83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能找出这一情境中的等量关系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6083280" y="3573360"/>
            <a:ext cx="260028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5124"/>
          <p:cNvSpPr/>
          <p:nvPr/>
        </p:nvSpPr>
        <p:spPr>
          <a:xfrm>
            <a:off x="682560" y="37180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①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二年每间房屋的租金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一年每间房屋的租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50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125"/>
          <p:cNvSpPr/>
          <p:nvPr/>
        </p:nvSpPr>
        <p:spPr>
          <a:xfrm>
            <a:off x="611280" y="486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②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一年出租的房屋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二年出租的房屋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0"/>
          <p:cNvSpPr/>
          <p:nvPr/>
        </p:nvSpPr>
        <p:spPr>
          <a:xfrm>
            <a:off x="276120" y="7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6147"/>
          <p:cNvGrpSpPr/>
          <p:nvPr/>
        </p:nvGrpSpPr>
        <p:grpSpPr>
          <a:xfrm>
            <a:off x="325440" y="404640"/>
            <a:ext cx="2729520" cy="806400"/>
            <a:chOff x="325440" y="404640"/>
            <a:chExt cx="2729520" cy="806400"/>
          </a:xfrm>
        </p:grpSpPr>
        <p:sp>
          <p:nvSpPr>
            <p:cNvPr id="92" name="矩形 7"/>
            <p:cNvSpPr/>
            <p:nvPr/>
          </p:nvSpPr>
          <p:spPr>
            <a:xfrm>
              <a:off x="885240" y="404640"/>
              <a:ext cx="1672560" cy="76356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16"/>
            <p:cNvSpPr/>
            <p:nvPr/>
          </p:nvSpPr>
          <p:spPr>
            <a:xfrm>
              <a:off x="325440" y="693360"/>
              <a:ext cx="524160" cy="4834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7"/>
            <p:cNvSpPr/>
            <p:nvPr/>
          </p:nvSpPr>
          <p:spPr>
            <a:xfrm>
              <a:off x="687240" y="6426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6151"/>
            <p:cNvSpPr/>
            <p:nvPr/>
          </p:nvSpPr>
          <p:spPr>
            <a:xfrm>
              <a:off x="1380600" y="6789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分式方程的应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6152"/>
            <p:cNvSpPr/>
            <p:nvPr/>
          </p:nvSpPr>
          <p:spPr>
            <a:xfrm>
              <a:off x="325440" y="692640"/>
              <a:ext cx="5536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3"/>
          <p:cNvSpPr/>
          <p:nvPr/>
        </p:nvSpPr>
        <p:spPr>
          <a:xfrm>
            <a:off x="324000" y="3078000"/>
            <a:ext cx="83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这一情境你能提出哪些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96720" y="3876840"/>
            <a:ext cx="9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395280" y="1355760"/>
            <a:ext cx="7923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单位将沿街的一部分房屋出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间房屋的租金第二年比第一年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有房屋的租金第一年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年为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.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126"/>
          <p:cNvSpPr/>
          <p:nvPr/>
        </p:nvSpPr>
        <p:spPr>
          <a:xfrm>
            <a:off x="1187280" y="394812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每年有多少间房屋出租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2139120" y="466740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两年每间房屋的租金各是多少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250920" y="549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解决这些问题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5126"/>
          <p:cNvSpPr/>
          <p:nvPr/>
        </p:nvSpPr>
        <p:spPr>
          <a:xfrm>
            <a:off x="685800" y="14209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年有多少间房屋出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39640" y="2060640"/>
            <a:ext cx="9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145"/>
          <p:cNvSpPr/>
          <p:nvPr/>
        </p:nvSpPr>
        <p:spPr>
          <a:xfrm>
            <a:off x="1258920" y="213192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①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每年有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间房屋出租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对象 6146"/>
          <p:cNvGraphicFramePr/>
          <p:nvPr/>
        </p:nvGraphicFramePr>
        <p:xfrm>
          <a:off x="3924360" y="2637000"/>
          <a:ext cx="3863880" cy="107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对象 61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2637000"/>
                    <a:ext cx="386388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文本框 6148"/>
          <p:cNvSpPr/>
          <p:nvPr/>
        </p:nvSpPr>
        <p:spPr>
          <a:xfrm>
            <a:off x="1403280" y="3789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149"/>
          <p:cNvSpPr/>
          <p:nvPr/>
        </p:nvSpPr>
        <p:spPr>
          <a:xfrm>
            <a:off x="1258920" y="458136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150"/>
          <p:cNvSpPr/>
          <p:nvPr/>
        </p:nvSpPr>
        <p:spPr>
          <a:xfrm>
            <a:off x="1258920" y="4508640"/>
            <a:ext cx="726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经检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2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原方程的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也符合提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6151"/>
          <p:cNvSpPr/>
          <p:nvPr/>
        </p:nvSpPr>
        <p:spPr>
          <a:xfrm>
            <a:off x="971640" y="5445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 每年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间房屋出租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2"/>
          <p:cNvSpPr/>
          <p:nvPr/>
        </p:nvSpPr>
        <p:spPr>
          <a:xfrm>
            <a:off x="1562760" y="110160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两年每间房屋的租金各是多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11280" y="1749600"/>
            <a:ext cx="28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方法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7169"/>
          <p:cNvSpPr/>
          <p:nvPr/>
        </p:nvSpPr>
        <p:spPr>
          <a:xfrm>
            <a:off x="1258920" y="25416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由①得第一年每间房屋的租金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对象 7170"/>
          <p:cNvGraphicFramePr/>
          <p:nvPr/>
        </p:nvGraphicFramePr>
        <p:xfrm>
          <a:off x="5796000" y="2540160"/>
          <a:ext cx="2092320" cy="66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对象 717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2540160"/>
                    <a:ext cx="20923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文本框 7171"/>
          <p:cNvSpPr/>
          <p:nvPr/>
        </p:nvSpPr>
        <p:spPr>
          <a:xfrm>
            <a:off x="7888320" y="2540160"/>
            <a:ext cx="11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﹙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7172"/>
          <p:cNvSpPr/>
          <p:nvPr/>
        </p:nvSpPr>
        <p:spPr>
          <a:xfrm>
            <a:off x="682560" y="347652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二年每间房屋的租金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对象 7173"/>
          <p:cNvGraphicFramePr/>
          <p:nvPr/>
        </p:nvGraphicFramePr>
        <p:xfrm>
          <a:off x="4313160" y="3362400"/>
          <a:ext cx="2433600" cy="71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对象 717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13160" y="3362400"/>
                    <a:ext cx="24336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文本框 7174"/>
          <p:cNvSpPr/>
          <p:nvPr/>
        </p:nvSpPr>
        <p:spPr>
          <a:xfrm>
            <a:off x="6804000" y="34034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﹙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7175"/>
          <p:cNvSpPr/>
          <p:nvPr/>
        </p:nvSpPr>
        <p:spPr>
          <a:xfrm>
            <a:off x="1187280" y="412416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两年每间房屋的租金各是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800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850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611280" y="620640"/>
            <a:ext cx="28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方法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8193"/>
          <p:cNvSpPr/>
          <p:nvPr/>
        </p:nvSpPr>
        <p:spPr>
          <a:xfrm>
            <a:off x="826920" y="1341360"/>
            <a:ext cx="79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设第一年每间房屋的租金为</a:t>
            </a:r>
            <a:r>
              <a:rPr b="0" i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则第二年每间房屋的租金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500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对象 8194"/>
          <p:cNvGraphicFramePr/>
          <p:nvPr/>
        </p:nvGraphicFramePr>
        <p:xfrm>
          <a:off x="2771640" y="2565360"/>
          <a:ext cx="301968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对象 819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2565360"/>
                    <a:ext cx="30196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文本框 8195"/>
          <p:cNvSpPr/>
          <p:nvPr/>
        </p:nvSpPr>
        <p:spPr>
          <a:xfrm>
            <a:off x="1547640" y="4005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800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8196"/>
          <p:cNvSpPr/>
          <p:nvPr/>
        </p:nvSpPr>
        <p:spPr>
          <a:xfrm>
            <a:off x="4140360" y="4005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则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500=85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8197"/>
          <p:cNvSpPr/>
          <p:nvPr/>
        </p:nvSpPr>
        <p:spPr>
          <a:xfrm>
            <a:off x="900000" y="4869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经检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8000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原方程的解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也符合题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7175"/>
          <p:cNvSpPr/>
          <p:nvPr/>
        </p:nvSpPr>
        <p:spPr>
          <a:xfrm>
            <a:off x="971640" y="549288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两年每间房屋的租金各是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800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850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32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8"/>
          <p:cNvGrpSpPr/>
          <p:nvPr/>
        </p:nvGrpSpPr>
        <p:grpSpPr>
          <a:xfrm>
            <a:off x="539640" y="3932280"/>
            <a:ext cx="7705800" cy="1739880"/>
            <a:chOff x="539640" y="3932280"/>
            <a:chExt cx="7705800" cy="1739880"/>
          </a:xfrm>
        </p:grpSpPr>
        <p:grpSp>
          <p:nvGrpSpPr>
            <p:cNvPr id="136" name="组合 38"/>
            <p:cNvGrpSpPr/>
            <p:nvPr/>
          </p:nvGrpSpPr>
          <p:grpSpPr>
            <a:xfrm>
              <a:off x="593640" y="4004280"/>
              <a:ext cx="648360" cy="649440"/>
              <a:chOff x="593640" y="4004280"/>
              <a:chExt cx="648360" cy="649440"/>
            </a:xfrm>
          </p:grpSpPr>
          <p:grpSp>
            <p:nvGrpSpPr>
              <p:cNvPr id="137" name="组合 35"/>
              <p:cNvGrpSpPr/>
              <p:nvPr/>
            </p:nvGrpSpPr>
            <p:grpSpPr>
              <a:xfrm>
                <a:off x="593640" y="4004280"/>
                <a:ext cx="648360" cy="649440"/>
                <a:chOff x="593640" y="4004280"/>
                <a:chExt cx="648360" cy="649440"/>
              </a:xfrm>
            </p:grpSpPr>
            <p:sp>
              <p:nvSpPr>
                <p:cNvPr id="138" name="椭圆 56"/>
                <p:cNvSpPr/>
                <p:nvPr/>
              </p:nvSpPr>
              <p:spPr>
                <a:xfrm>
                  <a:off x="593640" y="4004280"/>
                  <a:ext cx="648360" cy="6494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椭圆 57"/>
                <p:cNvSpPr/>
                <p:nvPr/>
              </p:nvSpPr>
              <p:spPr>
                <a:xfrm>
                  <a:off x="665640" y="4004280"/>
                  <a:ext cx="504360" cy="505080"/>
                </a:xfrm>
                <a:prstGeom prst="ellipse">
                  <a:avLst/>
                </a:prstGeom>
                <a:solidFill>
                  <a:srgbClr val="007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Box 14"/>
              <p:cNvSpPr/>
              <p:nvPr/>
            </p:nvSpPr>
            <p:spPr>
              <a:xfrm>
                <a:off x="667800" y="40672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e9"/>
                    </a:solidFill>
                    <a:latin typeface="微软雅黑"/>
                    <a:ea typeface="微软雅黑"/>
                  </a:rPr>
                  <a:t>提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Box 17"/>
            <p:cNvSpPr/>
            <p:nvPr/>
          </p:nvSpPr>
          <p:spPr>
            <a:xfrm>
              <a:off x="539640" y="3932280"/>
              <a:ext cx="7705800" cy="1739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主要等量关系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①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今年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7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月份用水量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去年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2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月份用水量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5m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②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水费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用水量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×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单价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3"/>
          <p:cNvGrpSpPr/>
          <p:nvPr/>
        </p:nvGrpSpPr>
        <p:grpSpPr>
          <a:xfrm>
            <a:off x="468360" y="1268280"/>
            <a:ext cx="8209080" cy="1885320"/>
            <a:chOff x="468360" y="1268280"/>
            <a:chExt cx="8209080" cy="1885320"/>
          </a:xfrm>
        </p:grpSpPr>
        <p:sp>
          <p:nvSpPr>
            <p:cNvPr id="143" name="TextBox 6"/>
            <p:cNvSpPr/>
            <p:nvPr/>
          </p:nvSpPr>
          <p:spPr>
            <a:xfrm>
              <a:off x="468360" y="1268280"/>
              <a:ext cx="8209080" cy="18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8b8b"/>
                  </a:solidFill>
                  <a:latin typeface="黑体"/>
                  <a:ea typeface="黑体"/>
                </a:rPr>
                <a:t>例</a:t>
              </a:r>
              <a:r>
                <a:rPr b="1" lang="zh-CN" sz="2400" spc="-1" strike="noStrike">
                  <a:solidFill>
                    <a:srgbClr val="228b8b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某市从今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日起调整居民用水价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每吨水费上涨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小丽家去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月的水费是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元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今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月的水费是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元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今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月的用水量比去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月的用水量多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求该市今年居民用水的价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8b8b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4" name="对象 1"/>
            <p:cNvGraphicFramePr/>
            <p:nvPr/>
          </p:nvGraphicFramePr>
          <p:xfrm>
            <a:off x="8170920" y="1268640"/>
            <a:ext cx="237240" cy="669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5" name="对象 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70920" y="1268640"/>
                      <a:ext cx="237240" cy="66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539640" y="765000"/>
            <a:ext cx="9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1265"/>
          <p:cNvSpPr/>
          <p:nvPr/>
        </p:nvSpPr>
        <p:spPr>
          <a:xfrm>
            <a:off x="1835280" y="1052640"/>
            <a:ext cx="554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1266"/>
          <p:cNvSpPr/>
          <p:nvPr/>
        </p:nvSpPr>
        <p:spPr>
          <a:xfrm>
            <a:off x="1476360" y="90972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该市去年用水的价格为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m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对象 11267"/>
          <p:cNvGraphicFramePr/>
          <p:nvPr/>
        </p:nvGraphicFramePr>
        <p:xfrm>
          <a:off x="3564000" y="2492280"/>
          <a:ext cx="2058840" cy="111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对象 112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2492280"/>
                    <a:ext cx="205884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文本框 11268"/>
          <p:cNvSpPr/>
          <p:nvPr/>
        </p:nvSpPr>
        <p:spPr>
          <a:xfrm>
            <a:off x="1332000" y="170028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则今年水的价格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对象 11269"/>
          <p:cNvGraphicFramePr/>
          <p:nvPr/>
        </p:nvGraphicFramePr>
        <p:xfrm>
          <a:off x="4716360" y="1628640"/>
          <a:ext cx="754200" cy="93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对象 1126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6360" y="1628640"/>
                    <a:ext cx="754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文本框 11270"/>
          <p:cNvSpPr/>
          <p:nvPr/>
        </p:nvSpPr>
        <p:spPr>
          <a:xfrm>
            <a:off x="4356000" y="177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)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m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1271"/>
          <p:cNvSpPr/>
          <p:nvPr/>
        </p:nvSpPr>
        <p:spPr>
          <a:xfrm>
            <a:off x="1403280" y="270828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意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1272"/>
          <p:cNvSpPr/>
          <p:nvPr/>
        </p:nvSpPr>
        <p:spPr>
          <a:xfrm>
            <a:off x="1405080" y="3922560"/>
            <a:ext cx="741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.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经检验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原方程的根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.5×(1+      )=2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该市今年居民用水的价格为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m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对象 1"/>
          <p:cNvGraphicFramePr/>
          <p:nvPr/>
        </p:nvGraphicFramePr>
        <p:xfrm>
          <a:off x="2771640" y="4869000"/>
          <a:ext cx="238320" cy="66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对象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71640" y="4869000"/>
                    <a:ext cx="2383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